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792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0D39-9818-4653-8BA4-0E09AA88B1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RETENIR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Avec la directive cadre, la prise en compte des considérations économiques sera plus développé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Cette prise en compte interviendra sous différentes facettes et à différentes étapes d'élaboration de la dir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gt; identification des enjeux économiques liés à l'eau dans l'état des lieux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gt; analyse des "scénarios d'évolution" vis à vis de l'objectif de résultat 2015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gt; notion de "coût disproportionné" pour justifier les dérogations dans le plan de 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gt; analyse du rapport coût-efficacité des mesures à mettre en oeuvre au titre du programme de me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gt; récupération des coû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 méthodologies communes d'appréciation sont en cours de définition au niveau européen pour garantir la cohérence des approches utilisées par les différents états memb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RETENIR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des considérations économiques permettront de justifier des dérogations à l'objectif de bon état dans le plan de gestion 2009 : notions de coûts disproportionnés, de masse d'eau fortement modifiées et de masses d'eau artificiel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remarque : la prise en compte des aspects socio-économiques par la DCE comprend plusieurs volets (au delà des aspects coûts disproportionnés)  dont on peut avoir une vision plus complète en consultant le module "pour approfondir" n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13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6164280"/>
          <a:ext cx="534960" cy="69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164280"/>
                    <a:ext cx="5349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66135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72480" y="6507000"/>
            <a:ext cx="3074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odule «Pour approfondir » n° 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1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6600"/>
                </a:solidFill>
                <a:latin typeface="Wingdings"/>
                <a:ea typeface="Wingdings"/>
              </a:rPr>
              <a:t>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l’identification des usages socio-économiques de </a:t>
            </a: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l’eau dans l’état des li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1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00cc99"/>
                </a:solidFill>
                <a:latin typeface="ZapfDingbats BT"/>
                <a:ea typeface="ZapfDingbats BT"/>
              </a:rPr>
              <a:t>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u delà des prélèvements et rejets, que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ont les activités et services liés à l’eau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00cc99"/>
                </a:solidFill>
                <a:latin typeface="ZapfDingbats BT"/>
                <a:ea typeface="ZapfDingbats BT"/>
              </a:rPr>
              <a:t>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aractérisation en terme d ’enjeux d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importance socio-économique de ce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tivités et services (par ex. : en terme d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iffre d’affaire, d’emploi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00cc99"/>
                </a:solidFill>
                <a:latin typeface="ZapfDingbats BT"/>
                <a:ea typeface="ZapfDingbats BT"/>
              </a:rPr>
              <a:t>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nalyse à l’échelle de territoires socio-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économiques perti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83808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Arial"/>
              </a:rPr>
              <a:t>La prise en compte des aspects socio-économ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640" y="346860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71600" y="3808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38360" y="704880"/>
            <a:ext cx="40672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447920"/>
            <a:ext cx="80010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1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’analyse des «scénarios d’évolution » vis à vis de l’objectif 20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99072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Arial"/>
              </a:rPr>
              <a:t>La prise en compte des aspects socio-économ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3640" y="346860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280" y="31640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98560" y="33926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819520"/>
            <a:ext cx="4114800" cy="79704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application des directives européennes sur l ’eau (ERU, nitrate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819520"/>
            <a:ext cx="4114800" cy="562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spectives d’aménagement du terri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19920" y="3820320"/>
            <a:ext cx="523080" cy="43668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486400" y="3885480"/>
            <a:ext cx="685080" cy="38268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495680"/>
            <a:ext cx="83059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ère évaluation, dans l’état des lieux, des masses d’eau qui risquent de ne pas atteindre l’objectif « bon état 2015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" y="5562720"/>
            <a:ext cx="8077320" cy="562680"/>
            <a:chOff x="685800" y="5562720"/>
            <a:chExt cx="8077320" cy="562680"/>
          </a:xfrm>
        </p:grpSpPr>
        <p:sp>
          <p:nvSpPr>
            <p:cNvPr id="76" name=""/>
            <p:cNvSpPr/>
            <p:nvPr/>
          </p:nvSpPr>
          <p:spPr>
            <a:xfrm>
              <a:off x="685800" y="5562720"/>
              <a:ext cx="609480" cy="45720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76520" y="5562720"/>
              <a:ext cx="708660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000000"/>
                  </a:solidFill>
                  <a:latin typeface="Arial"/>
                </a:rPr>
                <a:t>Au délà de l’état des lieux, un objectif : intégrer politiques sectorielles et politique de l’ea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73080" y="2302920"/>
            <a:ext cx="7412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La notion de «coûts disproportionnés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5760" y="3393360"/>
            <a:ext cx="3747960" cy="123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écier la faisabilité économique des mesures à mettre en œuvre pour atteindre les objecti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40120" y="3488760"/>
            <a:ext cx="3065760" cy="1048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tre en regard coût de la mesure  / bénéfice atten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120" y="5117760"/>
            <a:ext cx="77356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76280" indent="-185760">
              <a:lnSpc>
                <a:spcPct val="8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un élément pour alimenter le débat public : ne supprimera pas la part de la décision poli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692440" y="2795760"/>
            <a:ext cx="350640" cy="4554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59360" y="2836800"/>
            <a:ext cx="371520" cy="3510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14480" y="390240"/>
            <a:ext cx="7412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La prise en compte de considérations économiqu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35000" y="1387800"/>
            <a:ext cx="74120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permettra de justifier des dérogations à l ’objectif de « bon état 2015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752480"/>
            <a:ext cx="800100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70000"/>
              </a:lnSpc>
              <a:spcBef>
                <a:spcPts val="178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nalyse du rapport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coût-efficacité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s mesures à prévoir dans le programme de mesures 200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70000"/>
              </a:lnSpc>
              <a:spcBef>
                <a:spcPts val="178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la récupération des coû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>
              <a:lnSpc>
                <a:spcPct val="70000"/>
              </a:lnSpc>
              <a:spcBef>
                <a:spcPts val="178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Wingdings"/>
                <a:ea typeface="Wingdings"/>
              </a:rPr>
              <a:t>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alysée par grands secteurs économiques 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énage/industriels/agrico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>
              <a:lnSpc>
                <a:spcPct val="70000"/>
              </a:lnSpc>
              <a:spcBef>
                <a:spcPts val="178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Wingdings"/>
                <a:ea typeface="Wingdings"/>
              </a:rPr>
              <a:t>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ndre compte de la situation actuelle dans l’éta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 lie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>
              <a:lnSpc>
                <a:spcPct val="70000"/>
              </a:lnSpc>
              <a:spcBef>
                <a:spcPts val="178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Wingdings"/>
                <a:ea typeface="Wingdings"/>
              </a:rPr>
              <a:t>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oser des améliorations éventuelles dans l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 de 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762120"/>
            <a:ext cx="78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Arial"/>
              </a:rPr>
              <a:t>La prise en compte des aspects socio-économ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5306040"/>
            <a:ext cx="1548000" cy="433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6280" y="5119920"/>
            <a:ext cx="77677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 dérogations sont possibles : la DCE n’impos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s le recouvrement complet des coûts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ligation de transparence sur le « qui paie quoi  ?»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ur organiser le débat pub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09:30:46Z</dcterms:created>
  <dc:creator>CORON</dc:creator>
  <dc:description/>
  <dc:language>en-US</dc:language>
  <cp:lastModifiedBy>P2001162</cp:lastModifiedBy>
  <cp:lastPrinted>2003-04-25T12:27:05Z</cp:lastPrinted>
  <dcterms:modified xsi:type="dcterms:W3CDTF">2003-04-28T09:39:24Z</dcterms:modified>
  <cp:revision>16</cp:revision>
  <dc:subject/>
  <dc:title>Aucun titre de diapositive</dc:title>
</cp:coreProperties>
</file>